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42B5-A3CB-4C27-BD76-87B87822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DF06-293D-449A-9DEB-F75D9294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27D3-08D1-4202-97E7-31153E96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9809-177E-4355-98C8-65B2EE98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12F5-5B31-4361-9B3E-AC6A8757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1C35-F19E-44B1-959B-908772D8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6A86-B678-4882-8079-4DA51434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A642-C60F-4126-A545-E03A2A91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7D0B-3081-494C-B9E4-7962DD7D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906A-EE8D-4425-9C45-4C55FF0A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87BC-0092-45A7-B323-5CE7B0A8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3BC-9D72-4156-A33F-F969DC16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E24A-F73A-4E91-B83E-CD1896C25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thefloweringearth0@gmail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Преобразование целого выражения</a:t>
            </a:r>
            <a:br>
              <a:rPr sz="3000"/>
            </a:b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 в многочле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5516640"/>
            <a:ext cx="7761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рок алгебры в дистанционной форме. </a:t>
            </a: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64000" y="62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ля 202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1557360"/>
            <a:ext cx="8136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4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– b</a:t>
            </a:r>
            <a:r>
              <a:rPr b="1" lang="en-US" sz="4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=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(а-в)(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a+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(a+b)(c+d) =ac+ad+bc+b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364500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(5 + 3)(2 + 4) =10+20+6+12=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8*6=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76000" y="620640"/>
            <a:ext cx="727236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ить решение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636560"/>
            <a:ext cx="7632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образуйте в многочле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 + 1)(n + 5) – 2(n + 3)(n – 3) – (5n + 13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2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10n+n+5 – 2(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)-5n-1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2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10n + n + 5- 2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18 - 5n - 1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6n+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76000" y="620640"/>
            <a:ext cx="727236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ить решение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1484280"/>
            <a:ext cx="763272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ите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х(х + 2)(х – 2) – x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– 8) = 1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x(x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-4)-x3+8x=1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4x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+8x=1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-4x+8x=1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4x=1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X=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76000" y="620640"/>
            <a:ext cx="727236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ить решение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484280"/>
            <a:ext cx="7632720" cy="57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ите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y(4y – 1) – 2(3 – 2y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2y – 2(9 – 12y + 4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= 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2y – 18 + 24y – 8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y – 18 = 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y = 48 + 18     22y = 66   y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1628640"/>
            <a:ext cx="72723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 §14, раздел 37. Преобразование целого выражения в многочлен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ть № 926, прислать фотограф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8569440" cy="16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Следующее занятие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.04.202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437000"/>
            <a:ext cx="7417080" cy="15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efloweringearth0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й адрес  электронной поч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30T15:26:07Z</dcterms:created>
  <dc:creator>Севастьянова Гузель Фатыховна</dc:creator>
  <dc:description/>
  <dc:language>en-US</dc:language>
  <cp:lastModifiedBy>Севастьянова Гузель Фатыховна</cp:lastModifiedBy>
  <dcterms:modified xsi:type="dcterms:W3CDTF">2020-04-08T08:30:39Z</dcterms:modified>
  <cp:revision>41</cp:revision>
  <dc:subject/>
  <dc:title>Слайд 1</dc:title>
</cp:coreProperties>
</file>